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B3046-3217-4FCE-A293-6024A97DE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09D5F-7106-4D9B-8FEA-C6C38C28E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85610-D9D8-4C1D-881C-D61F5F464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622C4-D38C-44D7-8EC0-79A8FDE00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D8884-72FD-47C4-8742-E04CF1FCD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43B8D-6755-4155-AA47-92E47E250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9D267-F731-408E-9E4F-0D6B5D0FF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0F3E1-DFF8-45FB-92D5-0D8D06849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FE80C-9BBC-461E-A41D-94B74C071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9E581-B257-4AD1-A6CA-55C6DA706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DC202-32B6-44AE-B432-FD8B828B1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668EC-C174-4DE0-AA21-D590D8AB1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E8A3-CD66-460B-B390-B9E155C63C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1447920" y="9144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1752480" y="3657600"/>
            <a:ext cx="5238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siunea Iunie - Iulie</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b3s10</cp:lastModifiedBy>
  <dcterms:modified xsi:type="dcterms:W3CDTF">2012-06-18T11:33:48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